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gif" ContentType="image/gif"/>
  <Override PartName="/ppt/media/image8.wmf" ContentType="image/x-wmf"/>
  <Override PartName="/ppt/media/image6.wmf" ContentType="image/x-wmf"/>
  <Override PartName="/ppt/media/image7.wmf" ContentType="image/x-wmf"/>
  <Override PartName="/ppt/media/image9.gif" ContentType="image/gi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FB9C-96DB-4262-9B50-9AD8EEEBD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FA7A-7759-4DA4-9BAA-7A47A362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B19B-92BE-43B8-BAEF-72924E03A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A4DC-2011-47E4-A01F-C451A9F78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C389-99B6-4F38-9B2E-6C613E68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58AB-C689-4D9B-A7B4-B632F227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8C00-2E39-4E0D-8916-BA1766E4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F147-99DD-4251-B425-ECECCADA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C099-D74D-4DEE-96D5-5987F387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B8E2-2C2F-4525-89B4-CF056639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7B9B-E2BB-4112-B186-A8E49044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55A5-0642-4BE5-B702-088AB66E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2F8F-969D-490C-B285-F17F904B9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16360" y="2057400"/>
            <a:ext cx="4760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Mystery of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issing Carbun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IV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90720" y="289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28800" y="289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28954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9000" y="289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67080" y="28954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05520" y="289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19920" y="289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00960" y="246384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040" y="2463840"/>
            <a:ext cx="34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71000" y="246384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24120" y="246384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75880" y="246384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16120" y="246384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28720" y="246384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743200" y="3809880"/>
            <a:ext cx="250344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289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81080" y="28954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43200" y="289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05320" y="289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28954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05520" y="289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28954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29400" y="289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51800" y="246384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191680" y="246384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52000" y="246384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23400" y="246384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65160" y="24638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42760" y="2463840"/>
            <a:ext cx="32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86160" y="246384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27760" y="2463840"/>
            <a:ext cx="42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586640" y="246384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657600" y="3581280"/>
            <a:ext cx="188748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3372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1952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81280" y="2666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0552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7280" y="2666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553080" y="2666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31520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0100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53452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1760" y="22352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84160" y="2235240"/>
            <a:ext cx="42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53760" y="2235240"/>
            <a:ext cx="56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15880" y="2235240"/>
            <a:ext cx="56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38400" y="223524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97280" y="22352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59400" y="22352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24400" y="223524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65640" y="2235240"/>
            <a:ext cx="42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64040" y="220968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43000" y="223524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07120" y="22096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473680" y="2209680"/>
            <a:ext cx="34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735400" y="220968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00400" y="3505320"/>
            <a:ext cx="23623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6212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020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38280" y="2666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38480" y="2666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7692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38680" y="2666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7712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9360" y="2235240"/>
            <a:ext cx="32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04320" y="223524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75520" y="2235240"/>
            <a:ext cx="32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53480" y="2209680"/>
            <a:ext cx="32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49080" y="223524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4800" y="2235240"/>
            <a:ext cx="34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49280" y="223524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85920" y="223524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14600" y="2971800"/>
            <a:ext cx="31766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6212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0020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232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2666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8620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2666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24480" y="2666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6292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60480" y="223524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10800" y="223524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0200" y="2235240"/>
            <a:ext cx="34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40080" y="22352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84560" y="223524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43160" y="223524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14640" y="2235240"/>
            <a:ext cx="34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35080" y="223524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02600" y="22352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581280" y="3429000"/>
            <a:ext cx="171936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4792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2971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93360" y="254016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56720" y="254016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10000" y="251460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89480" y="254016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57440" y="2540160"/>
            <a:ext cx="34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86160" y="254016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42960" y="2540160"/>
            <a:ext cx="32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124080" y="3809880"/>
            <a:ext cx="22100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133720" y="2819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71800" y="2819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2819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2819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86400" y="2819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70960" y="2387520"/>
            <a:ext cx="32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78080" y="238752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28760" y="238752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58920" y="23875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34080" y="2387520"/>
            <a:ext cx="32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76720" y="3809880"/>
            <a:ext cx="190476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295280" y="3048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95480" y="3048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3048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19720" y="3048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048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43600" y="3048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3048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28360" y="261612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90400" y="261612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28840" y="261612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17520" y="2616120"/>
            <a:ext cx="42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79360" y="261612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30320" y="26161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76600" y="261612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80840" y="2616120"/>
            <a:ext cx="32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124080" y="3886200"/>
            <a:ext cx="170676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66680" y="2819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28800" y="2819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90920" y="2819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52680" y="2819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14800" y="2819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2819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2819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77120" y="2819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38880" y="2819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88440" y="238752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27160" y="2387520"/>
            <a:ext cx="42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96760" y="2387520"/>
            <a:ext cx="56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75080" y="238752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49080" y="23875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70320" y="238752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32440" y="238752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63680" y="23875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47680" y="238752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581280" y="3505320"/>
            <a:ext cx="161460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81080" y="2971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2971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5780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5880" y="2971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3432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64760" y="254016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79440" y="2540160"/>
            <a:ext cx="42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38320" y="254016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18520" y="2540160"/>
            <a:ext cx="32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47600" y="2540160"/>
            <a:ext cx="34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61920" y="254016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324120" y="2540160"/>
            <a:ext cx="34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50680" y="2540160"/>
            <a:ext cx="38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86000" y="3276720"/>
            <a:ext cx="440388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3T01:43:39Z</dcterms:created>
  <dc:creator>New User</dc:creator>
  <dc:description/>
  <dc:language>en-US</dc:language>
  <cp:lastModifiedBy>Rutherford County Schools</cp:lastModifiedBy>
  <dcterms:modified xsi:type="dcterms:W3CDTF">2007-04-21T15:17:12Z</dcterms:modified>
  <cp:revision>2</cp:revision>
  <dc:subject/>
  <dc:title>PowerPoint Presentation</dc:title>
</cp:coreProperties>
</file>